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4E8BCB7-E31A-4090-89CD-2307D193DC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4F1DB1F-DA02-4EC0-A43D-F46767716B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C45D-C642-47C9-99B5-D907F341B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CC76-EA23-43CF-A9D4-3F4411EA8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3051-954B-4B6A-91C8-CD233E400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1A85-F3EE-4D72-9404-4B562A8495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A7F1-96F8-439D-AE9B-E5349AEFC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AD1D-362D-468F-AE8B-95D2AFFC3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2CDB-FD63-4466-9AAA-679AE1051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6A64-E69F-4D38-8413-4A26952AC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3ED9-CB81-4039-8CEF-3C23C0BA9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59EF-5C4F-41AA-9A24-B26D4FAFF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3E68-77DB-4ECC-8F40-6DAA45679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BDCA-DF16-442F-8D6C-11364C572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A0AC-8E1E-4CA7-85B0-C5EBDFF1F5D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logo-a_samo_sede"/>
          <p:cNvPicPr/>
          <p:nvPr/>
        </p:nvPicPr>
        <p:blipFill>
          <a:blip r:embed="rId2"/>
          <a:stretch/>
        </p:blipFill>
        <p:spPr>
          <a:xfrm>
            <a:off x="304920" y="6095880"/>
            <a:ext cx="7617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"/>
          <p:cNvSpPr/>
          <p:nvPr/>
        </p:nvSpPr>
        <p:spPr>
          <a:xfrm>
            <a:off x="971640" y="1197000"/>
            <a:ext cx="7200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 Narrow"/>
              </a:rPr>
              <a:t>Monetary Policy in Practice: Decision-making an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5f9bc8"/>
                </a:solidFill>
                <a:latin typeface="Arial Narrow"/>
              </a:rPr>
              <a:t>Mojmír Hampl, MSc., Ph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5f9bc8"/>
                </a:solidFill>
                <a:latin typeface="Arial Narrow"/>
              </a:rPr>
              <a:t>UTB Course: Financial System, Banks and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353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ve the formal departmen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must be familiar with any used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ble to connect the real economy with a model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members from 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the team, NTF, Technic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member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ary Policy Division, International Analysis and Fiscal Analysis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171880" y="2925720"/>
            <a:ext cx="2974680" cy="14986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11520" y="3424320"/>
            <a:ext cx="229536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1200" y="349092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recasting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360440" y="1681200"/>
            <a:ext cx="1625760" cy="874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95440" y="1930320"/>
            <a:ext cx="13510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805040" y="199548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2171880" y="2303640"/>
            <a:ext cx="674280" cy="996480"/>
            <a:chOff x="2171880" y="2303640"/>
            <a:chExt cx="674280" cy="996480"/>
          </a:xfrm>
        </p:grpSpPr>
        <p:sp>
          <p:nvSpPr>
            <p:cNvPr id="73" name="Line 12"/>
            <p:cNvSpPr/>
            <p:nvPr/>
          </p:nvSpPr>
          <p:spPr>
            <a:xfrm flipH="1" flipV="1">
              <a:off x="2238120" y="2406240"/>
              <a:ext cx="608040" cy="89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2171880" y="2303640"/>
              <a:ext cx="1378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6"/>
          <p:cNvSpPr/>
          <p:nvPr/>
        </p:nvSpPr>
        <p:spPr>
          <a:xfrm>
            <a:off x="677520" y="4968720"/>
            <a:ext cx="351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Model operat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4"/>
          <p:cNvGrpSpPr/>
          <p:nvPr/>
        </p:nvGrpSpPr>
        <p:grpSpPr>
          <a:xfrm>
            <a:off x="2036880" y="4046400"/>
            <a:ext cx="809640" cy="873360"/>
            <a:chOff x="2036880" y="4046400"/>
            <a:chExt cx="809640" cy="873360"/>
          </a:xfrm>
        </p:grpSpPr>
        <p:sp>
          <p:nvSpPr>
            <p:cNvPr id="77" name="Line 22"/>
            <p:cNvSpPr/>
            <p:nvPr/>
          </p:nvSpPr>
          <p:spPr>
            <a:xfrm flipV="1">
              <a:off x="2036880" y="4138560"/>
              <a:ext cx="723960" cy="78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269712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26"/>
          <p:cNvSpPr/>
          <p:nvPr/>
        </p:nvSpPr>
        <p:spPr>
          <a:xfrm>
            <a:off x="4655160" y="5029200"/>
            <a:ext cx="365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scal and structural analysi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3"/>
          <p:cNvGrpSpPr/>
          <p:nvPr/>
        </p:nvGrpSpPr>
        <p:grpSpPr>
          <a:xfrm>
            <a:off x="4060800" y="4046400"/>
            <a:ext cx="676080" cy="873360"/>
            <a:chOff x="4060800" y="4046400"/>
            <a:chExt cx="676080" cy="873360"/>
          </a:xfrm>
        </p:grpSpPr>
        <p:sp>
          <p:nvSpPr>
            <p:cNvPr id="81" name="Line 31"/>
            <p:cNvSpPr/>
            <p:nvPr/>
          </p:nvSpPr>
          <p:spPr>
            <a:xfrm flipH="1" flipV="1">
              <a:off x="4138200" y="4146480"/>
              <a:ext cx="598680" cy="77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406080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4"/>
          <p:cNvSpPr/>
          <p:nvPr/>
        </p:nvSpPr>
        <p:spPr>
          <a:xfrm>
            <a:off x="5951520" y="4046400"/>
            <a:ext cx="243036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6098040" y="411804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tional relation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871880" y="3755880"/>
            <a:ext cx="1214640" cy="290520"/>
            <a:chOff x="4871880" y="3755880"/>
            <a:chExt cx="1214640" cy="290520"/>
          </a:xfrm>
        </p:grpSpPr>
        <p:sp>
          <p:nvSpPr>
            <p:cNvPr id="86" name="Line 37"/>
            <p:cNvSpPr/>
            <p:nvPr/>
          </p:nvSpPr>
          <p:spPr>
            <a:xfrm flipH="1" flipV="1">
              <a:off x="5002200" y="3827520"/>
              <a:ext cx="108432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871880" y="3755880"/>
              <a:ext cx="157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41"/>
          <p:cNvSpPr/>
          <p:nvPr/>
        </p:nvSpPr>
        <p:spPr>
          <a:xfrm>
            <a:off x="4280400" y="2060640"/>
            <a:ext cx="362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etary policy and strateg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Chief editor of the Policy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0" name="Line 123"/>
          <p:cNvSpPr/>
          <p:nvPr/>
        </p:nvSpPr>
        <p:spPr>
          <a:xfrm flipH="1">
            <a:off x="4211280" y="26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le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meet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several times pe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Near 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about the bas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d the forecast facing rest of the department and Boar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Director and Division Dir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etings (4 really concern the forec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ank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 on forecas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introduce changes i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, main drivers, set analytical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onditions, External assumptions (CF), Equilibrium trend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actual position of the economy, trends in future, external d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Initial conditions, External assumptions (CF), Equilibrium trends meeting with the B</a:t>
            </a:r>
            <a:r>
              <a:rPr b="0" lang="cs-CZ" sz="2800" spc="-1" strike="noStrike">
                <a:solidFill>
                  <a:srgbClr val="ff5050"/>
                </a:solidFill>
                <a:latin typeface="Arial"/>
              </a:rPr>
              <a:t>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370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r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est is put on the economic “story” underlying the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lternatives meeting with the </a:t>
            </a:r>
            <a:r>
              <a:rPr b="0" lang="cs-CZ" sz="2400" spc="-1" strike="noStrike">
                <a:solidFill>
                  <a:srgbClr val="ff5050"/>
                </a:solidFill>
                <a:latin typeface="Arial"/>
              </a:rPr>
              <a:t>decision-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the baseline is presented as a “story” to the </a:t>
            </a:r>
            <a:r>
              <a:rPr b="0" lang="cs-CZ" sz="2000" spc="-1" strike="noStrike">
                <a:solidFill>
                  <a:srgbClr val="ff505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discuss risks and choose 2-4 alternativ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nal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Monetar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lic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pen part and presentations incl. policy advice of staff (final fcast and documents passed in 6 days a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losed part of BB, risks, decision (followed by press conf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te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83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-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ailed expert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-equati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systems (VARs, structural mode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gap model (deviations from long-term trends, advanced Kalman based filtering techniq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behavioral equations (about 100 in total - identities, data transf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documented an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Technique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09760" y="76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Equa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: Infla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116000" y="1979640"/>
                <a:ext cx="7416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x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651120" y="3722760"/>
                <a:ext cx="1841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676520" y="1371600"/>
                <a:ext cx="601956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u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676520" y="3429000"/>
                <a:ext cx="5981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ar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999080" y="765000"/>
            <a:ext cx="53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Reaction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Speci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to treat forecast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ing probability distributions to ri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 by each BB member, not staff’s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: alternative scenarios preferable to fan-chart approach; scenarios selected by B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forecast bands (1,5 p.p.) stable, more to communicate general uncertain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risks communicated through BB’s Min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opics (risks, FPAS and 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Thank you for your attention.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tool for the Board to decide about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concern is to produce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erequisite for producing the forecast is to develop Forecasting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economy is, and what the current trend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ir likely evolution into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it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underlying policy pressures and policy simulations (active/endogenous 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o and how is producing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eful planning and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ise timing for the forecast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ness - intranet web p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ar term forecasting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tellite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ate and exter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 versus Exper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t views always superior in the near te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 tools provide medium-term consistency and interpre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nal outcome will always be based more on economic judgement - the core model is an organisational 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ff’s forecast, not a model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preparing the near term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developing and operating the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netary polic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MP strategy 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the operational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scal and structural analysis div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econom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162864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rterly forecast (5 week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ing team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oard at various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well documented forecast round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6:44:47Z</dcterms:created>
  <dc:creator>U03133</dc:creator>
  <dc:description/>
  <dc:language>en-US</dc:language>
  <cp:lastModifiedBy>uzivatel</cp:lastModifiedBy>
  <cp:lastPrinted>2002-12-10T16:18:24Z</cp:lastPrinted>
  <dcterms:modified xsi:type="dcterms:W3CDTF">2019-08-27T20:27:02Z</dcterms:modified>
  <cp:revision>48</cp:revision>
  <dc:subject/>
  <dc:title>Forecasting process in the CNB</dc:title>
</cp:coreProperties>
</file>